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5" y="0"/>
                </a:moveTo>
                <a:arcTo wR="5" hR="5" stAng="16200000" swAng="-5400000"/>
                <a:lnTo>
                  <a:pt x="0" y="31541"/>
                </a:lnTo>
                <a:arcTo wR="5" hR="5" stAng="10800000" swAng="-5400000"/>
                <a:lnTo>
                  <a:pt x="21595" y="31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560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560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0DA5-4DBA-454F-A6D2-0C7884D5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511FF-60DB-4FC8-BB6B-DCCDC779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1BA29-D3B8-4245-AF28-A76F57B2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D81EF-F0D1-4E5C-AFD9-0D1DC6BE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A886E-9D2D-4928-AEBC-1252F77B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B4B04-D65A-4C53-8824-58B36BDD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4BC53-8A4C-48D2-86A8-E3A85410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A2AC-2F0F-4DF4-A6AB-7B6C55309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1049D-BE35-4511-BC0B-21E2CF97D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742DD-A68E-42D1-A81D-62A1636CD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56658-9666-4C4B-B345-BD9C30E3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F835E-678D-4C14-BC99-EC9AD6DEF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5306-8406-42D5-AF68-E9E9D2532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673C-3895-44A4-87B3-1A64B3AD0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C328-7BA8-4EF4-9438-02826048E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5181-8A4C-47D1-81C9-A526EBA2F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5C43-22F2-43B7-BC86-6F5F96FB8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5742-2CE7-4FD2-A28D-D1731F729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A14A-5480-40B8-B1C4-F6AEEB22B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27BD-D13D-4B8F-9AC2-C0F2D2A8F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5CF6-ED19-4A5D-A18C-98C3AA3ED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767A-F1AD-43B2-8B8A-C44360016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EC23-FA44-48DF-A329-F9EF57EB0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DD66-1B89-471A-9232-659381CD9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EC6C5CB4-24C0-4CD9-BB49-916CDC263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40B6FDF9-8A10-4AD4-A151-C4599A3FB9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Peter.klaver@egem.n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liancy StUF standa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4571640"/>
            <a:ext cx="6945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egroep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laver, EGEM i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5-11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ternatieve oplossingsrichting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 marktconsult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gebruik zijnde en (niet?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werkende koppel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ventariseren 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ublic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der businessmo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keuringsinstituut / geen compliancy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de integratie afspraken / overeenkom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/openbaar maken va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afhankelijke (veld) inspec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st/keuringssoftware i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ntwikk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06DE2570-23CA-47A0-9626-38AA2A8895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olgtra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4232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ktconsultatie kandidaat – keuringsinstitu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, condities en randvoorw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CT-leveranci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rings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OM/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BO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besteding en sel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rming van inkoop/selectieteam en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FI – 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actering /  inkoop keuringsinstitu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alisatie, test en accept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611280" y="5300640"/>
            <a:ext cx="460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222160" y="5084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39640" y="4294080"/>
            <a:ext cx="4608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150880" y="4149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843600" y="2060640"/>
            <a:ext cx="33480" cy="201600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7419960" y="4221000"/>
            <a:ext cx="1440" cy="20876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10920" y="2565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451280" y="4724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7419960" y="3284280"/>
            <a:ext cx="31680" cy="936360"/>
          </a:xfrm>
          <a:prstGeom prst="line">
            <a:avLst/>
          </a:prstGeom>
          <a:ln w="7632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dianummer 1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8ED3698B-F5C3-40AA-9B97-6D4DCBB6CB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6360" cy="3368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572000" y="4800600"/>
            <a:ext cx="3886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eter.klaver@egem.n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l. 06 3634 13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49491AF2-2F16-4CAC-A6EF-DE0BDAFA6F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UF keurme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ikwijdte en toetsingsk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siness en organisatie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aan Keuringsinstitu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automatiseerde compliancy 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nd van zaken en ver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A808A84E-A25D-4CA0-8929-552918E1D5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334200" y="1700280"/>
            <a:ext cx="2809800" cy="3238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arom een StUF keurmer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6697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gemeenten en ove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betering interoperabiliteit in de prakt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koppelproblemen tussen software van verschillende leveranc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gere integratierisic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ten krijgen meer grip op kwaliteit van de standaarden en op de (juiste) implementatie ervan i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schappelijke en onafhankelijke testvoorzi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ICT 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testkosten (n * m testen naar n * 1 ) en (externe) onafhankelijke testhulpmiddelen/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urmerk is “kwaliteitsstempel” en een marketing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ssend in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vulling van pijler ICT – certificering op (juist) gebruik van standaarden “StUF-keurmerk” op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m organiseren, uitbesteden, samenwer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7380360" y="1062000"/>
            <a:ext cx="133344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AE18234-9BD7-4BDE-A91D-C056F69535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045800"/>
            <a:ext cx="79423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compliancy –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ftware die voldoet aan de toetsingscriteria en proces krijgt een StUF keurme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91640" y="1844640"/>
            <a:ext cx="1152360" cy="110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1635120" cy="2305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/>
          <p:cNvSpPr/>
          <p:nvPr/>
        </p:nvSpPr>
        <p:spPr>
          <a:xfrm>
            <a:off x="468360" y="2708280"/>
            <a:ext cx="1655640" cy="2305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09800" y="2781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Progr.van Eis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340000" y="2708280"/>
            <a:ext cx="504720" cy="2952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920320" y="2133720"/>
            <a:ext cx="50770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aag en opzet op hoofdlij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gitimatie, doe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model ( taakverdeling en financie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case voor keuring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st en keuringskader StUF Keurme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ikwijd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pro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ctieve keuringscrite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sen aan ict leverancier en te keuren sof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isen aa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liancy voorzi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la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65D79BC-F6BD-49ED-8688-A63624C479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ikwijdte Toetsingskader “StUF keurmer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5435640" cy="354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152360" cy="110484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16200000">
            <a:off x="3294720" y="3121200"/>
            <a:ext cx="1079640" cy="5414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00720" y="2060640"/>
            <a:ext cx="2952720" cy="2879640"/>
          </a:xfrm>
          <a:prstGeom prst="ellipse">
            <a:avLst/>
          </a:prstGeom>
          <a:solidFill>
            <a:srgbClr val="d1c1d1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4789440" y="2637000"/>
            <a:ext cx="2374920" cy="168264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3852720" y="2274840"/>
            <a:ext cx="1368720" cy="6508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852720" y="3932280"/>
            <a:ext cx="1152720" cy="6490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088960" y="5084640"/>
            <a:ext cx="3762000" cy="925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Het StUF keurmerk is GEEN garant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at een koppeling/service cor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erkt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1919C6BB-B322-483B-BFD7-510358910A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1085400"/>
            <a:ext cx="79423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werkingsgebied van de StUF standaard is breder dan alleen gemeen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96872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364000" y="2133720"/>
            <a:ext cx="3490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 gemeentelijke ket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gegevens uitwisselen en opvr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nengemeentelijke integra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gemeentelijke ket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aakgegevens van/naar burgers/bedrij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eentelijke ketens waar geen XML-standaard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70CE9915-7BCE-4FAD-A1E4-1762A993EB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- taakver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Oval 3"/>
          <p:cNvSpPr/>
          <p:nvPr/>
        </p:nvSpPr>
        <p:spPr>
          <a:xfrm>
            <a:off x="1116000" y="5373720"/>
            <a:ext cx="1511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Egem +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aarderingskamer +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LV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BA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KPB, …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924360" y="5157720"/>
            <a:ext cx="1152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 org. King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22920" y="1928880"/>
            <a:ext cx="296064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uringsdienst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en keur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&amp;O compliancyvoorzi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. inspec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apportage, admin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eerdere abonn.vorm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tr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stdiensten, adv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ankelij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ransparan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wezen experti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keten)integra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XML/SOAP, e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n/toet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tenstandaard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79640" y="1916280"/>
            <a:ext cx="31687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219640" y="2268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788000" y="4248000"/>
            <a:ext cx="431640" cy="180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60480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D78B0D5E-077A-4EA3-ACA8-22D7C1B4FC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 - financieel (voorste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estering + exploitatiekosten verdisconteerd in opbrengsten van keur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keuringen &gt; 150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CT leveranciers betalen de ke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ringsinstituut kan extra opbrengsten gener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garanti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, Waarderingskamer, LVO en .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oor dekking investering/ opstartkosten van keuringinstituut bij onvoldoende opbrengs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I 3 jaar, tegen kostpr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835280" y="3645000"/>
            <a:ext cx="6490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835280" y="350028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700360" y="4221000"/>
            <a:ext cx="576360" cy="43344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605160" cy="58896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1763640" y="234936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eur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0F2F880F-8E07-498E-90DF-2BD81C1A47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isen aan compliancy voorzi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5473440" cy="334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40000" y="2560680"/>
            <a:ext cx="273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Ei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uncti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ik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 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brei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25:17Z</dcterms:created>
  <dc:creator>Peter Klaver</dc:creator>
  <dc:description/>
  <dc:language>en-US</dc:language>
  <cp:lastModifiedBy>Peter</cp:lastModifiedBy>
  <dcterms:modified xsi:type="dcterms:W3CDTF">2009-11-26T06:35:42Z</dcterms:modified>
  <cp:revision>42</cp:revision>
  <dc:subject>Versterking StUF in 2009</dc:subject>
  <dc:title>StUF compliancy </dc:title>
</cp:coreProperties>
</file>